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4F9-8E5E-4C6D-BBFB-575D0B08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67C-133B-464A-921A-AC51F3DE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E599-E9E5-4068-8E6B-1F2A980B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9F5-D415-4981-BC68-44FB190D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732-FDA0-4878-AA4A-AB4B8B21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8F81-A1D2-4186-896D-2439CEBD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FD8-43E1-4A9E-A9CF-BB71298F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EB2C-EE09-4AAD-87B3-6DB20558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31F7-6F18-4AE3-9067-96576858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618-C84A-45D1-9C8B-406E489F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621-CDF9-4773-AFBD-C64FA687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D167-AC26-4C3D-8113-B44EFFEC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5CE1-D0E5-46F6-A1B6-3B6CAE4BF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pn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pn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285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st Be Sant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Welcome\Desktop\School PowerPoints\school clipart\santa2.jpg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, Ho, Ho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rry nos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 on hea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it that’s re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ard that’s whit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Clau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3809880" y="838080"/>
            <a:ext cx="1371240" cy="685800"/>
            <a:chOff x="3809880" y="838080"/>
            <a:chExt cx="1371240" cy="685800"/>
          </a:xfrm>
        </p:grpSpPr>
        <p:graphicFrame>
          <p:nvGraphicFramePr>
            <p:cNvPr id="83" name=""/>
            <p:cNvGraphicFramePr/>
            <p:nvPr/>
          </p:nvGraphicFramePr>
          <p:xfrm>
            <a:off x="4194720" y="838080"/>
            <a:ext cx="9864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94720" y="838080"/>
                      <a:ext cx="986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AutoShape 6"/>
            <p:cNvSpPr/>
            <p:nvPr/>
          </p:nvSpPr>
          <p:spPr>
            <a:xfrm>
              <a:off x="3809880" y="1075320"/>
              <a:ext cx="673920" cy="158040"/>
            </a:xfrm>
            <a:prstGeom prst="rightArrow">
              <a:avLst>
                <a:gd name="adj1" fmla="val 50000"/>
                <a:gd name="adj2" fmla="val 106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Picture 7" descr="C:\Documents and Settings\Welcome\Desktop\School PowerPoints\school clipart\moonstars.jpg"/>
          <p:cNvPicPr/>
          <p:nvPr/>
        </p:nvPicPr>
        <p:blipFill>
          <a:blip r:embed="rId5"/>
          <a:stretch/>
        </p:blipFill>
        <p:spPr>
          <a:xfrm>
            <a:off x="4114800" y="2819520"/>
            <a:ext cx="708120" cy="66672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8"/>
          <p:cNvGrpSpPr/>
          <p:nvPr/>
        </p:nvGrpSpPr>
        <p:grpSpPr>
          <a:xfrm>
            <a:off x="5257800" y="3048120"/>
            <a:ext cx="1079640" cy="1218960"/>
            <a:chOff x="5257800" y="3048120"/>
            <a:chExt cx="1079640" cy="1218960"/>
          </a:xfrm>
        </p:grpSpPr>
        <p:pic>
          <p:nvPicPr>
            <p:cNvPr id="88" name="Picture 9" descr="C:\Documents and Settings\Welcome\Desktop\School PowerPoints\school clipart\santa2.jpg"/>
            <p:cNvPicPr/>
            <p:nvPr/>
          </p:nvPicPr>
          <p:blipFill>
            <a:blip r:embed="rId6"/>
            <a:stretch/>
          </p:blipFill>
          <p:spPr>
            <a:xfrm>
              <a:off x="5493600" y="3048120"/>
              <a:ext cx="843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AutoShape 10"/>
            <p:cNvSpPr/>
            <p:nvPr/>
          </p:nvSpPr>
          <p:spPr>
            <a:xfrm>
              <a:off x="5257800" y="3497040"/>
              <a:ext cx="337680" cy="192240"/>
            </a:xfrm>
            <a:prstGeom prst="rightArrow">
              <a:avLst>
                <a:gd name="adj1" fmla="val 50000"/>
                <a:gd name="adj2" fmla="val 4391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0" name=""/>
          <p:cNvGraphicFramePr/>
          <p:nvPr/>
        </p:nvGraphicFramePr>
        <p:xfrm>
          <a:off x="4800600" y="2057400"/>
          <a:ext cx="106056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057400"/>
                    <a:ext cx="10605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657600" y="1523880"/>
          <a:ext cx="104148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1523880"/>
                    <a:ext cx="1041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very soon will come our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y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very soon will come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ight little reindeer pull his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leigh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’s little reindeer pull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 sleig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C:\Documents and Settings\Welcome\Desktop\School PowerPoints\school clipart\sleighreindeer.jpg"/>
          <p:cNvPicPr/>
          <p:nvPr/>
        </p:nvPicPr>
        <p:blipFill>
          <a:blip r:embed="rId2"/>
          <a:stretch/>
        </p:blipFill>
        <p:spPr>
          <a:xfrm>
            <a:off x="3581280" y="2133720"/>
            <a:ext cx="10670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Welcome\Desktop\School PowerPoints\school clipart\santa2.jpg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indeer sleigh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es our way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, Ho, Ho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rry nose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p on head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it that’s red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 night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ard that’s white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nta Clau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429000" y="1676520"/>
            <a:ext cx="1371240" cy="685800"/>
            <a:chOff x="3429000" y="1676520"/>
            <a:chExt cx="1371240" cy="685800"/>
          </a:xfrm>
        </p:grpSpPr>
        <p:graphicFrame>
          <p:nvGraphicFramePr>
            <p:cNvPr id="100" name=""/>
            <p:cNvGraphicFramePr/>
            <p:nvPr/>
          </p:nvGraphicFramePr>
          <p:xfrm>
            <a:off x="3813840" y="1676520"/>
            <a:ext cx="9864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13840" y="1676520"/>
                      <a:ext cx="986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AutoShape 6"/>
            <p:cNvSpPr/>
            <p:nvPr/>
          </p:nvSpPr>
          <p:spPr>
            <a:xfrm>
              <a:off x="3429000" y="1913760"/>
              <a:ext cx="673920" cy="158040"/>
            </a:xfrm>
            <a:prstGeom prst="rightArrow">
              <a:avLst>
                <a:gd name="adj1" fmla="val 50000"/>
                <a:gd name="adj2" fmla="val 106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3429000" y="2286000"/>
          <a:ext cx="914400" cy="60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2286000"/>
                    <a:ext cx="9144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114800" y="2819520"/>
          <a:ext cx="831960" cy="67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2819520"/>
                    <a:ext cx="83196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9" descr="C:\Documents and Settings\Welcome\Desktop\School PowerPoints\school clipart\moonstars.jpg"/>
          <p:cNvPicPr/>
          <p:nvPr/>
        </p:nvPicPr>
        <p:blipFill>
          <a:blip r:embed="rId9"/>
          <a:stretch/>
        </p:blipFill>
        <p:spPr>
          <a:xfrm>
            <a:off x="3657600" y="3429000"/>
            <a:ext cx="609480" cy="57456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10"/>
          <p:cNvGrpSpPr/>
          <p:nvPr/>
        </p:nvGrpSpPr>
        <p:grpSpPr>
          <a:xfrm>
            <a:off x="4800600" y="3886200"/>
            <a:ext cx="990720" cy="838080"/>
            <a:chOff x="4800600" y="3886200"/>
            <a:chExt cx="990720" cy="838080"/>
          </a:xfrm>
        </p:grpSpPr>
        <p:pic>
          <p:nvPicPr>
            <p:cNvPr id="109" name="Picture 11" descr="C:\Documents and Settings\Welcome\Desktop\School PowerPoints\school clipart\santa2.jpg"/>
            <p:cNvPicPr/>
            <p:nvPr/>
          </p:nvPicPr>
          <p:blipFill>
            <a:blip r:embed="rId10"/>
            <a:stretch/>
          </p:blipFill>
          <p:spPr>
            <a:xfrm>
              <a:off x="5016960" y="3886200"/>
              <a:ext cx="7743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AutoShape 12"/>
            <p:cNvSpPr/>
            <p:nvPr/>
          </p:nvSpPr>
          <p:spPr>
            <a:xfrm>
              <a:off x="4800600" y="4194720"/>
              <a:ext cx="309960" cy="132120"/>
            </a:xfrm>
            <a:prstGeom prst="rightArrow">
              <a:avLst>
                <a:gd name="adj1" fmla="val 50000"/>
                <a:gd name="adj2" fmla="val 5865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Picture 13" descr="C:\Documents and Settings\Welcome\Desktop\School PowerPoints\school clipart\sleighreindeer.jpg"/>
          <p:cNvPicPr/>
          <p:nvPr/>
        </p:nvPicPr>
        <p:blipFill>
          <a:blip r:embed="rId11"/>
          <a:stretch/>
        </p:blipFill>
        <p:spPr>
          <a:xfrm>
            <a:off x="4191120" y="0"/>
            <a:ext cx="1066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’s got a beard that’s long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d white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’s got a beard that’s long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d whi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9" descr="C:\Documents and Settings\Welcome\Desktop\School PowerPoints\school clipart\santa2.jpg"/>
          <p:cNvPicPr/>
          <p:nvPr/>
        </p:nvPicPr>
        <p:blipFill>
          <a:blip r:embed="rId2"/>
          <a:stretch/>
        </p:blipFill>
        <p:spPr>
          <a:xfrm>
            <a:off x="6019920" y="3048120"/>
            <a:ext cx="2832120" cy="35938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12"/>
          <p:cNvGrpSpPr/>
          <p:nvPr/>
        </p:nvGrpSpPr>
        <p:grpSpPr>
          <a:xfrm>
            <a:off x="4495680" y="990720"/>
            <a:ext cx="1079640" cy="1218960"/>
            <a:chOff x="4495680" y="990720"/>
            <a:chExt cx="1079640" cy="1218960"/>
          </a:xfrm>
        </p:grpSpPr>
        <p:pic>
          <p:nvPicPr>
            <p:cNvPr id="45" name="Picture 10" descr="C:\Documents and Settings\Welcome\Desktop\School PowerPoints\school clipart\santa2.jpg"/>
            <p:cNvPicPr/>
            <p:nvPr/>
          </p:nvPicPr>
          <p:blipFill>
            <a:blip r:embed="rId3"/>
            <a:stretch/>
          </p:blipFill>
          <p:spPr>
            <a:xfrm>
              <a:off x="4731480" y="990720"/>
              <a:ext cx="843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AutoShape 11"/>
            <p:cNvSpPr/>
            <p:nvPr/>
          </p:nvSpPr>
          <p:spPr>
            <a:xfrm>
              <a:off x="4495680" y="1439640"/>
              <a:ext cx="337680" cy="192240"/>
            </a:xfrm>
            <a:prstGeom prst="rightArrow">
              <a:avLst>
                <a:gd name="adj1" fmla="val 50000"/>
                <a:gd name="adj2" fmla="val 4391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Welcome\Desktop\School PowerPoints\school clipart\santa2.jpg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comes around on a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comes around on a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C:\Documents and Settings\Welcome\Desktop\School PowerPoints\school clipart\moonstars.jpg"/>
          <p:cNvPicPr/>
          <p:nvPr/>
        </p:nvPicPr>
        <p:blipFill>
          <a:blip r:embed="rId3"/>
          <a:stretch/>
        </p:blipFill>
        <p:spPr>
          <a:xfrm>
            <a:off x="5486400" y="914400"/>
            <a:ext cx="99072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Welcome\Desktop\School PowerPoints\school clipart\santa2.jpg"/>
          <p:cNvPicPr/>
          <p:nvPr/>
        </p:nvPicPr>
        <p:blipFill>
          <a:blip r:embed="rId2"/>
          <a:stretch/>
        </p:blipFill>
        <p:spPr>
          <a:xfrm>
            <a:off x="5943600" y="297180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ard that’s whit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Clau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:\Documents and Settings\Welcome\Desktop\School PowerPoints\school clipart\moonstars.jpg"/>
          <p:cNvPicPr/>
          <p:nvPr/>
        </p:nvPicPr>
        <p:blipFill>
          <a:blip r:embed="rId3"/>
          <a:stretch/>
        </p:blipFill>
        <p:spPr>
          <a:xfrm>
            <a:off x="4495680" y="457200"/>
            <a:ext cx="708120" cy="6667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5943600" y="990720"/>
            <a:ext cx="1079640" cy="1218960"/>
            <a:chOff x="5943600" y="990720"/>
            <a:chExt cx="1079640" cy="1218960"/>
          </a:xfrm>
        </p:grpSpPr>
        <p:pic>
          <p:nvPicPr>
            <p:cNvPr id="54" name="Picture 6" descr="C:\Documents and Settings\Welcome\Desktop\School PowerPoints\school clipart\santa2.jpg"/>
            <p:cNvPicPr/>
            <p:nvPr/>
          </p:nvPicPr>
          <p:blipFill>
            <a:blip r:embed="rId4"/>
            <a:stretch/>
          </p:blipFill>
          <p:spPr>
            <a:xfrm>
              <a:off x="6179400" y="990720"/>
              <a:ext cx="843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AutoShape 7"/>
            <p:cNvSpPr/>
            <p:nvPr/>
          </p:nvSpPr>
          <p:spPr>
            <a:xfrm>
              <a:off x="5943600" y="1439640"/>
              <a:ext cx="337680" cy="192240"/>
            </a:xfrm>
            <a:prstGeom prst="rightArrow">
              <a:avLst>
                <a:gd name="adj1" fmla="val 50000"/>
                <a:gd name="adj2" fmla="val 4391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Welcome\Desktop\School PowerPoints\school clipart\santa2.jpg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’s got boots and a sui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 red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’s got boots and a sui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 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800600" y="1143000"/>
          <a:ext cx="10605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143000"/>
                    <a:ext cx="10605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5" descr="C:\Documents and Settings\Welcome\Desktop\School PowerPoints\school clipart\boots.jpg"/>
          <p:cNvPicPr/>
          <p:nvPr/>
        </p:nvPicPr>
        <p:blipFill>
          <a:blip r:embed="rId5"/>
          <a:stretch/>
        </p:blipFill>
        <p:spPr>
          <a:xfrm>
            <a:off x="3505320" y="1219320"/>
            <a:ext cx="120636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wears a long cap on his head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ta wears a long cap on his he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666880" y="3886200"/>
          <a:ext cx="3479760" cy="229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886200"/>
                    <a:ext cx="3479760" cy="22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Welcome\Desktop\School PowerPoints\school clipart\santa2.jpg"/>
          <p:cNvPicPr/>
          <p:nvPr/>
        </p:nvPicPr>
        <p:blipFill>
          <a:blip r:embed="rId2"/>
          <a:stretch/>
        </p:blipFill>
        <p:spPr>
          <a:xfrm>
            <a:off x="6019920" y="2666880"/>
            <a:ext cx="2832120" cy="359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 on hea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it that’s red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igh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ard that’s whit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st be Sant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Clau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48320" y="914400"/>
          <a:ext cx="106020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914400"/>
                    <a:ext cx="10602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Welcome\Desktop\School PowerPoints\school clipart\moonstars.jpg"/>
          <p:cNvPicPr/>
          <p:nvPr/>
        </p:nvPicPr>
        <p:blipFill>
          <a:blip r:embed="rId5"/>
          <a:stretch/>
        </p:blipFill>
        <p:spPr>
          <a:xfrm>
            <a:off x="4038480" y="1676520"/>
            <a:ext cx="70812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3886200" y="228600"/>
          <a:ext cx="104148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86200" y="228600"/>
                    <a:ext cx="1041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" name="Group 7"/>
          <p:cNvGrpSpPr/>
          <p:nvPr/>
        </p:nvGrpSpPr>
        <p:grpSpPr>
          <a:xfrm>
            <a:off x="5486400" y="1981080"/>
            <a:ext cx="1079640" cy="1219320"/>
            <a:chOff x="5486400" y="1981080"/>
            <a:chExt cx="1079640" cy="1219320"/>
          </a:xfrm>
        </p:grpSpPr>
        <p:pic>
          <p:nvPicPr>
            <p:cNvPr id="72" name="Picture 8" descr="C:\Documents and Settings\Welcome\Desktop\School PowerPoints\school clipart\santa2.jpg"/>
            <p:cNvPicPr/>
            <p:nvPr/>
          </p:nvPicPr>
          <p:blipFill>
            <a:blip r:embed="rId8"/>
            <a:stretch/>
          </p:blipFill>
          <p:spPr>
            <a:xfrm>
              <a:off x="5722200" y="1981080"/>
              <a:ext cx="843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AutoShape 9"/>
            <p:cNvSpPr/>
            <p:nvPr/>
          </p:nvSpPr>
          <p:spPr>
            <a:xfrm>
              <a:off x="5486400" y="2430360"/>
              <a:ext cx="337680" cy="192240"/>
            </a:xfrm>
            <a:prstGeom prst="rightArrow">
              <a:avLst>
                <a:gd name="adj1" fmla="val 50000"/>
                <a:gd name="adj2" fmla="val 4391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’s got a great bi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rry nos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’s got a great big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rry no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6"/>
          <p:cNvGrpSpPr/>
          <p:nvPr/>
        </p:nvGrpSpPr>
        <p:grpSpPr>
          <a:xfrm>
            <a:off x="1676520" y="3657600"/>
            <a:ext cx="4342680" cy="2666160"/>
            <a:chOff x="1676520" y="3657600"/>
            <a:chExt cx="4342680" cy="2666160"/>
          </a:xfrm>
        </p:grpSpPr>
        <p:graphicFrame>
          <p:nvGraphicFramePr>
            <p:cNvPr id="76" name=""/>
            <p:cNvGraphicFramePr/>
            <p:nvPr/>
          </p:nvGraphicFramePr>
          <p:xfrm>
            <a:off x="2895840" y="3657600"/>
            <a:ext cx="3123360" cy="2666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95840" y="3657600"/>
                      <a:ext cx="3123360" cy="266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AutoShape 8"/>
            <p:cNvSpPr/>
            <p:nvPr/>
          </p:nvSpPr>
          <p:spPr>
            <a:xfrm>
              <a:off x="1676520" y="4580280"/>
              <a:ext cx="2133720" cy="614520"/>
            </a:xfrm>
            <a:prstGeom prst="rightArrow">
              <a:avLst>
                <a:gd name="adj1" fmla="val 50000"/>
                <a:gd name="adj2" fmla="val 8680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laughs this wa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Ho, ho ho?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nta laughs this wa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Ho, ho, ho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1:41:12Z</dcterms:created>
  <dc:creator>Beth Spreen</dc:creator>
  <dc:description/>
  <dc:language>en-US</dc:language>
  <cp:lastModifiedBy>Amy Burns</cp:lastModifiedBy>
  <dcterms:modified xsi:type="dcterms:W3CDTF">2011-07-03T05:07:49Z</dcterms:modified>
  <cp:revision>37</cp:revision>
  <dc:subject/>
  <dc:title>Must Be Santa</dc:title>
</cp:coreProperties>
</file>